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E40-B7D6-4F28-94D6-FCF67AD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FF2-735B-43A1-B983-1C2C458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FAB-889A-4174-97AF-BE59465D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70C-8AF5-4F2F-AF31-9A7AB79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191D-EEF0-4159-BA01-511E67B7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92E4-6E9A-4F1F-B9C1-8C7752AA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B50-CBD3-4E20-8292-2CC73BA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33FB-FEE6-467F-B2DA-E841A66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62E-9A01-4BB2-8CE5-48071A5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4442-7F59-446F-9D89-B0526465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359-017F-419D-AD35-65BB10F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794-88A1-4EB3-BEF6-AD6B5A7D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613A-BA24-4529-8C6D-35D367B9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FA3A-3671-4493-B8B5-B7BBEF4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8067-B2D5-4109-9E2A-37BF2A7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9ECD-7D1B-46B8-8DE0-C64851A7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CA5-0121-44A7-9A69-32FE64E3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1D6-6B8B-485C-B554-A07D2ADD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60E-316A-4022-8DC6-77290CF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0AF-B4EA-4C91-9F3F-EBCBF87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CFE-8347-4839-8724-4039FAEA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A53-EBF1-44B4-9CEB-7768FA0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991-EAD9-49CA-8875-C820CD3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AB3-D448-4996-96A7-6CC8E5B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0D7-9E60-494B-A388-E281991AF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BD3-273E-4133-9D03-02A053C638F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3520" y="1752480"/>
            <a:ext cx="67053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nrenewab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erg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ow Fossil-Fuel Deposits Fo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ms from the remains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plant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that lived in swamps hundreds of millions of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uch of the coal in the eastern U.S. formed about 320 million to 300 million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Formation of coa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 ocean levels rose &amp; fell, swamps were covered with sedimen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ayers of sediment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ompressed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the plant remai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Heat &amp; pressure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ithin the Earth’s crust caused coal to for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il &amp;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ult from the decay of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tiny marine organism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that accumulated on the bottom of the ocean millions of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ajor advantages of co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latively inexpensiv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eds little refining after it has been min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Electricity is Generated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al: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0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clear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0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Gas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8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ydroelectricity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7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il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al Mining &amp; the Environme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rface mining has a bigger effect on the enviro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xic chemicals can leach into nearby strea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lot of research focuses on 2 thing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veloping better methods of locat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veloping less damaging metho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ir Pollu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gher-grade coals produce more heat and less pollution than lower-grade co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 is a major source of pollution when coal is burn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ean-burning coal technology has dramatically reduced air pollution in the U.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etroleu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il that is pumped from the ground (also called crude oil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roleum product: anything that is made from crude oi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counts for 45% of the world’s commercial energy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st of the world’s oil reserves are in the Middle Ea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s in the Oil-Drilling Proces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ploration wells are dri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oil can be extracted at a profitable rate, wells are dri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il is transported to a refinery to be converted into fuels &amp; other petroleum produ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301680"/>
            <a:ext cx="79246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vironmental Effects of Using Oi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petroleum fuels are burned, they release pollut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tribute to the formation of smog and cause health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lfur: a pollutant that contributes to acid ra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arbon dioxide released may contribute to global warm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things that have reduced air pollution from cars in many area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mission regula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echnology (catalytic converter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atural G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s 20% of the world’s nonrenewable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hane (CH4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s become more common to use because it produces fewer pollutants than burning other fossil fue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 &amp; the Fu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about 90% of the energy used in developed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st will likely increase as the demand for energy resources increas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il reserves: oil deposits that can be extracted profitably at current prices using current technolo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elative cost of obtaining fossil fuels influences the amount of fossil fuels that we extract from the Eart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mains of ancient organisms that changed into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coal, oil, or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 most of the energy used to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2 main proble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i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limi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btaining and using them cause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environmental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4" descr="c:\program files\microsoft office\clipart\standard\stddir3\in00563_.wmf"/>
          <p:cNvPicPr/>
          <p:nvPr/>
        </p:nvPicPr>
        <p:blipFill>
          <a:blip r:embed="rId1"/>
          <a:stretch/>
        </p:blipFill>
        <p:spPr>
          <a:xfrm>
            <a:off x="7264440" y="2438280"/>
            <a:ext cx="187956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thegenerator.biz/RetroBeverlyHillbillies62.jpg"/>
          <p:cNvPicPr/>
          <p:nvPr/>
        </p:nvPicPr>
        <p:blipFill>
          <a:blip r:embed="rId2"/>
          <a:srcRect l="19581" t="21487" r="8617" b="0"/>
          <a:stretch/>
        </p:blipFill>
        <p:spPr>
          <a:xfrm>
            <a:off x="72388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uels for Different Us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ed for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5 main purpo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ook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ranspor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Manufactur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Heating &amp; cooling building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Generating electricity to run machines &amp; appli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Suitabilit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of a fuel for each application depends on the fuel’s energy content, cost, availability &amp; safety, and the byproducts of the fuel’s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ectricity – Power on Dem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in fuels is often converted into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electrical energ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n order to power machines because electricity is more convenient to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an be transported quickly across long or short di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Disadvantages of electricit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fficult to st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 energy sources have to be used to generate 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is Electricity Generated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Electric generator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nverts mechanical energy (motion) into electrical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a </a:t>
            </a:r>
            <a:r>
              <a:rPr b="0" i="1" lang="en-US" sz="2400" spc="-1" strike="noStrike">
                <a:solidFill>
                  <a:srgbClr val="fe1f08"/>
                </a:solidFill>
                <a:latin typeface="Arial Black"/>
              </a:rPr>
              <a:t>turbin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(wheel that changes the force of a moving gas or liquid into energy that can do work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ter is boiled to produce the steam that turns the turbi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water is heated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burning a fue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(coal, gas) or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fission of uranium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in nuclear pl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urbine spins a generator to produce electric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_01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societies use much more energy than 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untries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.S. uses more energy per person than any other country in the world excep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anad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&amp; th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United Arab Emir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more than 25% of its energy resources to transport goods &amp; people (trucks &amp; personal vehicl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idents of U.S. &amp; Canada have some of the lowest gasoline tax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3" descr="17_03"/>
          <p:cNvPicPr/>
          <p:nvPr/>
        </p:nvPicPr>
        <p:blipFill>
          <a:blip r:embed="rId1"/>
          <a:stretch/>
        </p:blipFill>
        <p:spPr>
          <a:xfrm>
            <a:off x="2286000" y="1371600"/>
            <a:ext cx="45673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ld Energy U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3" descr="17_02"/>
          <p:cNvPicPr/>
          <p:nvPr/>
        </p:nvPicPr>
        <p:blipFill>
          <a:blip r:embed="rId1"/>
          <a:stretch/>
        </p:blipFill>
        <p:spPr>
          <a:xfrm>
            <a:off x="838080" y="1752480"/>
            <a:ext cx="7315200" cy="492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21:13:29Z</dcterms:created>
  <dc:creator>Jason Turri</dc:creator>
  <dc:description/>
  <dc:language>en-US</dc:language>
  <cp:lastModifiedBy>Jason</cp:lastModifiedBy>
  <dcterms:modified xsi:type="dcterms:W3CDTF">2009-04-15T02:42:05Z</dcterms:modified>
  <cp:revision>8</cp:revision>
  <dc:subject/>
  <dc:title>Nonrenewable Energy</dc:title>
</cp:coreProperties>
</file>